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2C07E-5D3C-4175-B97B-C097F706B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F749E-6687-4BB5-BF94-5DDC9F83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3CE3B-6866-4B1F-96B0-963B47F76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14189-309F-41C8-AB5D-E59AAC5BA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FBF4-FA4B-42CF-9558-83A622BD8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4187-3E7A-49F8-9E5E-E3064359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187F-209F-4383-A8E8-38E9F8A5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2168-43E3-4623-8D26-EAFB3F72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BAF5-B934-4A34-958C-FB228ACA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B42E-7D4C-4A71-8444-BB4162A7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BB06-17A6-4969-B4C7-A90E99BD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DC19E-4396-4B17-A8BD-592072C2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A6DF-365E-40E7-B01F-C77518E8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C0B7-3772-49DA-8146-DE4CB23A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0B70-2E58-4DC2-A14D-287ADC9F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0F1B-8C88-4F47-A4C6-70E9556F6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C170-593A-432D-BB03-0932FDC8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BEA4B-4037-43E9-B6F6-2FC7A7A8D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A9E4D-7147-46BC-8E27-72ABB58D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81824-27BC-4489-A7E4-0BBD56F3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8D4EC-6B74-459A-B158-1A9709C8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C05BA-8CC4-4CD5-9061-BE9C86BF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8F8AF-C44F-48B0-AD72-4C7D5841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43C12-BC0E-4637-83ED-DC49552F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A2FF2-E6B0-45D1-8ED6-6B5C5502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934FC-69BE-4941-B9D3-3E0CD78E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2F1E9-56A7-4B53-93CD-223EECE1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7919A-6E80-448F-A8F4-8EEEB09F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20391-F18D-46AE-BD85-FA1E6D7AC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041AC-7AAF-48CC-A6F5-C6F0DBA2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06460-D3A8-4F5A-B525-9127AAFE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F98B0-2F49-48A4-AE42-12BB2739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34F4D-95DE-41D9-B97B-1693FCBC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3BD4B-FF59-4A8C-8505-4EFD46BB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1B224-494B-455C-B406-97C2803D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39F30-7B19-4F73-95EC-18DF3019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1FD7-3915-4D4F-A5AF-ACE3A173B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3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D965-3E44-454E-A01B-FC5C9FCFFAF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00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DDAE-0D1B-4C80-BDD8-C90AD6D7A73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PLANET MAR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4" descr="mar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5"/>
          <p:cNvSpPr/>
          <p:nvPr/>
        </p:nvSpPr>
        <p:spPr>
          <a:xfrm>
            <a:off x="2590920" y="259092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lanet Mars Not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457200" y="533520"/>
            <a:ext cx="792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700"/>
              </a:spcBef>
              <a:buClr>
                <a:srgbClr val="00ff99"/>
              </a:buClr>
              <a:buSzPct val="120000"/>
              <a:buFont typeface="Tahoma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ther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life on Mar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?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aybe underground, or deep in geothermal vents, or deep in the i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428840" indent="-51444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mple life –&gt; single-celled microb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42884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304920" y="68580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700"/>
              </a:spcBef>
              <a:buClr>
                <a:srgbClr val="00ff99"/>
              </a:buClr>
              <a:buSzPct val="120000"/>
              <a:buFont typeface="Tahoma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s is 4,200 miles in diamete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(1/2 size of Eart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42884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* Smaller size = weaker gravity field -&gt; about 1/3 of the Earth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2" descr="mars earth.jpg"/>
          <p:cNvPicPr/>
          <p:nvPr/>
        </p:nvPicPr>
        <p:blipFill>
          <a:blip r:embed="rId2"/>
          <a:stretch/>
        </p:blipFill>
        <p:spPr>
          <a:xfrm>
            <a:off x="2819520" y="2819520"/>
            <a:ext cx="32004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700"/>
              </a:spcBef>
              <a:buClr>
                <a:srgbClr val="00ff99"/>
              </a:buClr>
              <a:buSzPct val="120000"/>
              <a:buFont typeface="Tahom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 year on Mars is 669 Martian days or 687 Earth day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00ff99"/>
              </a:buClr>
              <a:buSzPct val="120000"/>
              <a:buFont typeface="Tahom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00ff99"/>
              </a:buClr>
              <a:buSzPct val="120000"/>
              <a:buFont typeface="Tahom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00ff99"/>
              </a:buClr>
              <a:buSzPct val="120000"/>
              <a:buFont typeface="Tahom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 Mars day is 24.5 hours lo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2" descr="mars orbit.jpg"/>
          <p:cNvPicPr/>
          <p:nvPr/>
        </p:nvPicPr>
        <p:blipFill>
          <a:blip r:embed="rId2"/>
          <a:stretch/>
        </p:blipFill>
        <p:spPr>
          <a:xfrm>
            <a:off x="2514600" y="3276720"/>
            <a:ext cx="41148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1"/>
          <p:cNvSpPr/>
          <p:nvPr/>
        </p:nvSpPr>
        <p:spPr>
          <a:xfrm>
            <a:off x="762120" y="380880"/>
            <a:ext cx="7924680" cy="56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ffff"/>
              </a:buClr>
              <a:buFont typeface="Tahoma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ust Stor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4288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ypical dust storm is 200-600 meters in diameter and 1 to 3 km tal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4288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l recorded storms were observed between 2 p.m. and 3 p.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4288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mperature maximums occur during dust storms (low pressure).  The dusty air absorbs sunlight which warms the upper atmosphere, which then causes the global wind patterns to change, spreading the dus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4288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altation – small particles carried short distances and transferring kinetic energy to larger partic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4288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ust Devils inject a great deal of dust into the atmosphere, creating regional storm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4288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ectric For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2" descr="mars dust.jpg"/>
          <p:cNvPicPr/>
          <p:nvPr/>
        </p:nvPicPr>
        <p:blipFill>
          <a:blip r:embed="rId2"/>
          <a:stretch/>
        </p:blipFill>
        <p:spPr>
          <a:xfrm>
            <a:off x="4495680" y="48006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1"/>
          <p:cNvSpPr/>
          <p:nvPr/>
        </p:nvSpPr>
        <p:spPr>
          <a:xfrm>
            <a:off x="685800" y="533520"/>
            <a:ext cx="784872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ffff"/>
              </a:buClr>
              <a:buFont typeface="Tahoma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me of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largest volcano is Olympus M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4288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9,200 feet hig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4288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dera is 50 miles across and 10,000 feet dee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4288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se is about the size of Arizo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4288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rs is to believed to have a mono plate = one plate – this would cause volcanoes to be extremely lar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2" descr="olympus mons.jpg"/>
          <p:cNvPicPr/>
          <p:nvPr/>
        </p:nvPicPr>
        <p:blipFill>
          <a:blip r:embed="rId2"/>
          <a:stretch/>
        </p:blipFill>
        <p:spPr>
          <a:xfrm>
            <a:off x="2895480" y="3276720"/>
            <a:ext cx="33530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2"/>
          <p:cNvSpPr/>
          <p:nvPr/>
        </p:nvSpPr>
        <p:spPr>
          <a:xfrm>
            <a:off x="762120" y="457200"/>
            <a:ext cx="78483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ffff"/>
              </a:buClr>
              <a:buFont typeface="Tahoma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are Earth and Mars alik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4288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rs is probably the only other planet in our solar system that could support or could have supported lif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4288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oth have systems of air, water, ice, and geolog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4288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oth have canyons, volcanoes, tectonic activity, polar ice caps, seasonal weather changes, and atmospheres with wind and clou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4288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4288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4288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Picture 2" descr="earth_mars_comparison.jpg"/>
          <p:cNvPicPr/>
          <p:nvPr/>
        </p:nvPicPr>
        <p:blipFill>
          <a:blip r:embed="rId2"/>
          <a:stretch/>
        </p:blipFill>
        <p:spPr>
          <a:xfrm>
            <a:off x="1447920" y="2971800"/>
            <a:ext cx="632448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1"/>
          <p:cNvSpPr/>
          <p:nvPr/>
        </p:nvSpPr>
        <p:spPr>
          <a:xfrm>
            <a:off x="533520" y="457200"/>
            <a:ext cx="7543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8.  Time period for traveling to Mars and length of stay on Mars = 6 to 8 months to travel from Earth to Mars, stay on Mars for 24 months, and travel from Mars to Earth would take another 6 to 8 month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2" descr="ares-rocket.jpg"/>
          <p:cNvPicPr/>
          <p:nvPr/>
        </p:nvPicPr>
        <p:blipFill>
          <a:blip r:embed="rId2"/>
          <a:stretch/>
        </p:blipFill>
        <p:spPr>
          <a:xfrm>
            <a:off x="1405080" y="2971800"/>
            <a:ext cx="63338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2"/>
          <p:cNvSpPr/>
          <p:nvPr/>
        </p:nvSpPr>
        <p:spPr>
          <a:xfrm>
            <a:off x="457200" y="53352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ffff"/>
              </a:buClr>
              <a:buFont typeface="Tahoma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pe to buil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ars contro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n area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hryse Planit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4288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rthern Hemisphe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4288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istory of mild climate condi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2" descr="chysea.jpg"/>
          <p:cNvPicPr/>
          <p:nvPr/>
        </p:nvPicPr>
        <p:blipFill>
          <a:blip r:embed="rId2"/>
          <a:stretch/>
        </p:blipFill>
        <p:spPr>
          <a:xfrm>
            <a:off x="1295280" y="2514600"/>
            <a:ext cx="3200400" cy="2685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colony.jpg"/>
          <p:cNvPicPr/>
          <p:nvPr/>
        </p:nvPicPr>
        <p:blipFill>
          <a:blip r:embed="rId3"/>
          <a:stretch/>
        </p:blipFill>
        <p:spPr>
          <a:xfrm>
            <a:off x="5181480" y="2590920"/>
            <a:ext cx="30481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planet Mars is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4</a:t>
            </a:r>
            <a:r>
              <a:rPr b="0" lang="en-US" sz="2800" spc="-1" strike="noStrike" u="sng" baseline="30000">
                <a:solidFill>
                  <a:srgbClr val="ffffff"/>
                </a:solidFill>
                <a:uFillTx/>
                <a:latin typeface="Garamond"/>
              </a:rPr>
              <a:t>th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 planet from the su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ain roc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 Mars is volcanic lava known 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asal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  As i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weather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the iron minerals in the basalt rust and iron particles flake off making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red/orange soil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 Mar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2" descr="Solar System.jpg"/>
          <p:cNvPicPr/>
          <p:nvPr/>
        </p:nvPicPr>
        <p:blipFill>
          <a:blip r:embed="rId2"/>
          <a:stretch/>
        </p:blipFill>
        <p:spPr>
          <a:xfrm>
            <a:off x="762120" y="4191120"/>
            <a:ext cx="3962160" cy="2209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Mars_rocks.jpg"/>
          <p:cNvPicPr/>
          <p:nvPr/>
        </p:nvPicPr>
        <p:blipFill>
          <a:blip r:embed="rId3"/>
          <a:stretch/>
        </p:blipFill>
        <p:spPr>
          <a:xfrm>
            <a:off x="5486400" y="4191120"/>
            <a:ext cx="32194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6840" y="7617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ff99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rs has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thin atmosphere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 more radiation hits the plane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314360" indent="-51408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nly about 1% of Earth’s air pressu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314360" indent="-51408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mposed almost entirely of carbon dioxid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314360" indent="-51408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ir so thin that liquid water cannot remain on the surface (sucked into space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314360" indent="-51408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ealth concer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3143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3143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2" descr="534px-Mars_atmosphere.jpg"/>
          <p:cNvPicPr/>
          <p:nvPr/>
        </p:nvPicPr>
        <p:blipFill>
          <a:blip r:embed="rId2"/>
          <a:stretch/>
        </p:blipFill>
        <p:spPr>
          <a:xfrm>
            <a:off x="1752480" y="3581280"/>
            <a:ext cx="6104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6840" y="99072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ff99"/>
              </a:buClr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rs h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two moon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314360" indent="-51408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Phobo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(fear) – closer to Mars and larg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314360" indent="-51408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Deimo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(panic)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5" name="Picture 2" descr="mars with moons.jpg"/>
          <p:cNvPicPr/>
          <p:nvPr/>
        </p:nvPicPr>
        <p:blipFill>
          <a:blip r:embed="rId2"/>
          <a:stretch/>
        </p:blipFill>
        <p:spPr>
          <a:xfrm>
            <a:off x="914400" y="2590920"/>
            <a:ext cx="2800440" cy="1628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deimos.jpg"/>
          <p:cNvPicPr/>
          <p:nvPr/>
        </p:nvPicPr>
        <p:blipFill>
          <a:blip r:embed="rId3"/>
          <a:stretch/>
        </p:blipFill>
        <p:spPr>
          <a:xfrm>
            <a:off x="5486400" y="4343400"/>
            <a:ext cx="2495520" cy="1828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phobos.jpg"/>
          <p:cNvPicPr/>
          <p:nvPr/>
        </p:nvPicPr>
        <p:blipFill>
          <a:blip r:embed="rId4"/>
          <a:stretch/>
        </p:blipFill>
        <p:spPr>
          <a:xfrm>
            <a:off x="5638680" y="1981080"/>
            <a:ext cx="2162160" cy="21146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5"/>
          <p:cNvSpPr/>
          <p:nvPr/>
        </p:nvSpPr>
        <p:spPr>
          <a:xfrm>
            <a:off x="8077320" y="2133720"/>
            <a:ext cx="228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69" name="Straight Arrow Connector 7"/>
          <p:cNvCxnSpPr/>
          <p:nvPr/>
        </p:nvCxnSpPr>
        <p:spPr>
          <a:xfrm flipH="1" flipV="1">
            <a:off x="8076600" y="3885840"/>
            <a:ext cx="2293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70" name="TextBox 9"/>
          <p:cNvSpPr/>
          <p:nvPr/>
        </p:nvSpPr>
        <p:spPr>
          <a:xfrm>
            <a:off x="5562720" y="6324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EIMOS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71" name="Straight Arrow Connector 11"/>
          <p:cNvCxnSpPr/>
          <p:nvPr/>
        </p:nvCxnSpPr>
        <p:spPr>
          <a:xfrm flipV="1">
            <a:off x="6931440" y="6325560"/>
            <a:ext cx="396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ff99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Largest canyon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 Mars is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Valles Mariner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771560" indent="-514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t would extend nearly across the U.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771560" indent="-514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bout 2,485 miles long and about 5 miles deep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4" name="Picture 3" descr="mars canyon.jpg"/>
          <p:cNvPicPr/>
          <p:nvPr/>
        </p:nvPicPr>
        <p:blipFill>
          <a:blip r:embed="rId2"/>
          <a:stretch/>
        </p:blipFill>
        <p:spPr>
          <a:xfrm>
            <a:off x="2819520" y="2819520"/>
            <a:ext cx="4038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r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olar pack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ve a central area (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r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 that contain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rozen water with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larger seasonal deposit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arbon dioxid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os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771560" indent="-514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arth’s polar packs are made of water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2" descr="mars poles"/>
          <p:cNvPicPr/>
          <p:nvPr/>
        </p:nvPicPr>
        <p:blipFill>
          <a:blip r:embed="rId2"/>
          <a:stretch/>
        </p:blipFill>
        <p:spPr>
          <a:xfrm>
            <a:off x="3429000" y="39625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380880" y="60948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. 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fan-shaped deposi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 Mars indicated that some areas experienc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ersistent flow of wa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ver a considerable period of t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2" descr="channels of mars.jpg"/>
          <p:cNvPicPr/>
          <p:nvPr/>
        </p:nvPicPr>
        <p:blipFill>
          <a:blip r:embed="rId2"/>
          <a:stretch/>
        </p:blipFill>
        <p:spPr>
          <a:xfrm>
            <a:off x="6095880" y="24382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surface of mars.jpg"/>
          <p:cNvPicPr/>
          <p:nvPr/>
        </p:nvPicPr>
        <p:blipFill>
          <a:blip r:embed="rId3"/>
          <a:stretch/>
        </p:blipFill>
        <p:spPr>
          <a:xfrm>
            <a:off x="3581280" y="4419720"/>
            <a:ext cx="2162160" cy="2114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geological pictures.jpg"/>
          <p:cNvPicPr/>
          <p:nvPr/>
        </p:nvPicPr>
        <p:blipFill>
          <a:blip r:embed="rId4"/>
          <a:stretch/>
        </p:blipFill>
        <p:spPr>
          <a:xfrm>
            <a:off x="762120" y="2438280"/>
            <a:ext cx="24289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457200" y="22860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700"/>
              </a:spcBef>
              <a:buClr>
                <a:srgbClr val="00ff99"/>
              </a:buClr>
              <a:buSzPct val="12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arsis Region – home of the four largest volcanoe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428840" indent="-51444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ablizes the range of the axial tilt with its weigh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428840" indent="-514440">
              <a:lnSpc>
                <a:spcPct val="100000"/>
              </a:lnSpc>
              <a:spcBef>
                <a:spcPts val="499"/>
              </a:spcBef>
              <a:buClr>
                <a:srgbClr val="00ff99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ormous lava dome that bulges to a height of 29,000 feet (plateau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2" descr="volcanes-tharsis-mons2.jpg"/>
          <p:cNvPicPr/>
          <p:nvPr/>
        </p:nvPicPr>
        <p:blipFill>
          <a:blip r:embed="rId2"/>
          <a:stretch/>
        </p:blipFill>
        <p:spPr>
          <a:xfrm>
            <a:off x="1447920" y="2438280"/>
            <a:ext cx="64418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4572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. Name of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wo rover’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w on Mars –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pirit and Opport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.  Name of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Land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ow on Mars -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hoeni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Picture 2" descr="spirit.jpg"/>
          <p:cNvPicPr/>
          <p:nvPr/>
        </p:nvPicPr>
        <p:blipFill>
          <a:blip r:embed="rId2"/>
          <a:stretch/>
        </p:blipFill>
        <p:spPr>
          <a:xfrm>
            <a:off x="1066680" y="167652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opportunity.jpg"/>
          <p:cNvPicPr/>
          <p:nvPr/>
        </p:nvPicPr>
        <p:blipFill>
          <a:blip r:embed="rId3"/>
          <a:stretch/>
        </p:blipFill>
        <p:spPr>
          <a:xfrm>
            <a:off x="5638680" y="16765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lander.jpg"/>
          <p:cNvPicPr/>
          <p:nvPr/>
        </p:nvPicPr>
        <p:blipFill>
          <a:blip r:embed="rId4"/>
          <a:stretch/>
        </p:blipFill>
        <p:spPr>
          <a:xfrm>
            <a:off x="3124080" y="4343400"/>
            <a:ext cx="2686320" cy="1704960"/>
          </a:xfrm>
          <a:prstGeom prst="rect">
            <a:avLst/>
          </a:prstGeom>
          <a:ln w="0">
            <a:noFill/>
          </a:ln>
        </p:spPr>
      </p:pic>
      <p:sp>
        <p:nvSpPr>
          <p:cNvPr id="187" name="TextBox 5"/>
          <p:cNvSpPr/>
          <p:nvPr/>
        </p:nvSpPr>
        <p:spPr>
          <a:xfrm>
            <a:off x="3733920" y="1676520"/>
            <a:ext cx="228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88" name="Straight Arrow Connector 7"/>
          <p:cNvCxnSpPr/>
          <p:nvPr/>
        </p:nvCxnSpPr>
        <p:spPr>
          <a:xfrm flipH="1" flipV="1">
            <a:off x="3656880" y="3428640"/>
            <a:ext cx="3056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89" name="TextBox 12"/>
          <p:cNvSpPr/>
          <p:nvPr/>
        </p:nvSpPr>
        <p:spPr>
          <a:xfrm>
            <a:off x="8458200" y="1066680"/>
            <a:ext cx="457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90" name="Straight Arrow Connector 16"/>
          <p:cNvCxnSpPr>
            <a:stCxn id="189" idx="1"/>
            <a:endCxn id="183" idx="3"/>
          </p:cNvCxnSpPr>
          <p:nvPr/>
        </p:nvCxnSpPr>
        <p:spPr>
          <a:xfrm flipH="1">
            <a:off x="8228880" y="2635920"/>
            <a:ext cx="229320" cy="30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14:51:41Z</dcterms:created>
  <dc:creator>Techs</dc:creator>
  <dc:description/>
  <dc:language>en-US</dc:language>
  <cp:lastModifiedBy>aarangio</cp:lastModifiedBy>
  <dcterms:modified xsi:type="dcterms:W3CDTF">2010-08-26T22:57:59Z</dcterms:modified>
  <cp:revision>26</cp:revision>
  <dc:subject/>
  <dc:title>Scientific Method</dc:title>
</cp:coreProperties>
</file>